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6B6-638D-43AB-B2A5-B5BDFB2F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F98-2FC6-4981-813B-0C87A07F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1BE-84FF-4CFC-A3C5-B270D913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66C-9FFF-4355-99F2-233DAFB4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63C7-649E-4816-880D-FD1A9519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5C12-C139-4C5F-B4C2-7DB650EA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5F57-B874-4418-9A03-EF6707B2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2B51-1038-4E12-A3B9-44736B49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4903-390D-4F9E-8D7E-34D2DA1F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D6DC-0798-4EEE-A5FD-98B3A27D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3F66-DC4F-4679-85D9-8464B7E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293-5A6B-464A-AD48-B9E718AE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7F02-1AE2-45F5-B951-F65AA283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C732-BE6E-4A97-B168-FC1EAB82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4A5C-55A3-4C11-83B6-5C2B912B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EC02-981C-4F2D-9003-0C830584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9A22-5551-401B-8ED4-A3C86A04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A7E-DC21-412C-A585-6D8BB9F3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ABF-39DC-420E-9854-262DEA69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9DC-EBAE-4CD5-99D5-D3247D1E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5C3-6EEB-40E7-A85A-1F769D2D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C7D-3956-4C7F-9040-DA9118CC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499-34DD-4F34-8B02-108F109F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2A0-C510-4484-A2F9-4B4C09B3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6ED3-4C78-4F00-9A84-8DA13A2B3B63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1B4A-A691-4F6E-BA7C-CE47398B7D50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367"/>
              </a:buClr>
              <a:buFont typeface="Tahoma"/>
              <a:buChar char="◊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67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367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367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The Alamo</a:t>
            </a: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By: Aaron Plymir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Essential Question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hy is the battle of the Alamo important in American history?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438280" y="3200400"/>
            <a:ext cx="2451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am Houston called for volunteers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James Bowie took charge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et up at Alamo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Only 185 troops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Mexican army - 4000-5000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American had limited resources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05520" y="2438280"/>
            <a:ext cx="353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Explanation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367"/>
                </a:solidFill>
                <a:latin typeface="Tahoma"/>
              </a:rPr>
              <a:t>The siege lasted 13 days</a:t>
            </a:r>
            <a:endParaRPr b="0" lang="en-US" sz="1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367"/>
                </a:solidFill>
                <a:latin typeface="Tahoma"/>
              </a:rPr>
              <a:t>Alamo was over run</a:t>
            </a:r>
            <a:endParaRPr b="0" lang="en-US" sz="1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367"/>
                </a:solidFill>
                <a:latin typeface="Tahoma"/>
              </a:rPr>
              <a:t>Bought enough time for Sam Houston</a:t>
            </a:r>
            <a:endParaRPr b="0" lang="en-US" sz="1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367"/>
                </a:solidFill>
                <a:latin typeface="Tahoma"/>
              </a:rPr>
              <a:t>Allowed  time to gather men/rescources</a:t>
            </a:r>
            <a:endParaRPr b="0" lang="en-US" sz="1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367"/>
                </a:solidFill>
                <a:latin typeface="Tahoma"/>
              </a:rPr>
              <a:t>Americans later beat Santa Anna</a:t>
            </a:r>
            <a:endParaRPr b="0" lang="en-US" sz="1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367"/>
                </a:solidFill>
                <a:latin typeface="Tahoma"/>
              </a:rPr>
              <a:t>The Republic of Texas formed</a:t>
            </a:r>
            <a:endParaRPr b="0" lang="en-US" sz="1800" spc="-1" strike="noStrike">
              <a:solidFill>
                <a:srgbClr val="fff367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41911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 Alamo was los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 fight with Mexico was won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exas became an independent nation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367"/>
                </a:solidFill>
                <a:latin typeface="Tahoma"/>
              </a:rPr>
              <a:t>Allowed for America to expand later</a:t>
            </a:r>
            <a:endParaRPr b="0" lang="en-US" sz="16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2971800" cy="1782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8320" y="4343400"/>
            <a:ext cx="2361960" cy="1666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33800" y="4718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67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3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12:36Z</dcterms:created>
  <dc:creator>PA Department of Education</dc:creator>
  <dc:description/>
  <dc:language>en-US</dc:language>
  <cp:lastModifiedBy>PA Department of Education</cp:lastModifiedBy>
  <dcterms:modified xsi:type="dcterms:W3CDTF">2008-05-27T14:43:49Z</dcterms:modified>
  <cp:revision>1</cp:revision>
  <dc:subject/>
  <dc:title>The Alamo </dc:title>
</cp:coreProperties>
</file>